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639-5492-4923-A719-78A816B1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549-84A0-4C21-BF7F-340B62EC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D31-9823-4D17-9B0D-6AD0D3B9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A73-39E1-4BA2-B698-CB5FEF3B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2217-C01D-4E3A-AB72-2D114B77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3C10-EE66-444B-A20E-96091795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5BCE-0CC4-461A-AC8F-01C7D147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9166-D4D2-4660-98DB-BAEA99D2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7964-144A-429B-9A64-8516F30F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C20B-5B94-4BB4-8C07-2B88A735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8CB9-0ED5-4F76-8214-1963B5F2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AAE-42E4-499E-ACCD-88AD38FA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FDB1-E36A-4E68-8EC1-E7FC82ED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DEF2-0DEA-453C-B00F-38E2E8B0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4C3F-EE76-41A1-BD5A-791DE0EF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F5E4-3B92-4B11-A5D3-422F08CE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FFB0-4665-416E-A9E9-6997BFA8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70F-CEE4-4767-9805-8E1D35DF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8E6-371F-447E-9A4E-17D3B10E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23D-59A2-432C-B509-2D1FB46A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DDA-5918-4C70-8A96-89AE1281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814-CD89-42AA-8EDA-83ED055F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0487-80B9-475D-B64D-C9E6C7EC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7D9-19E4-4B9C-B654-D64EF70D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56F0D-D038-4B82-935D-822E9C22493C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CC574-D3A1-40C0-A237-B40E2BEF748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17F9A-32BC-4DFB-BEA3-CBFC3B2C754C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D2A17-C729-42B7-BD9F-65A00EAC908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learner.org/courses/essential/physicalsci/session7/closer1.html" TargetMode="External"/><Relationship Id="rId4" Type="http://schemas.openxmlformats.org/officeDocument/2006/relationships/hyperlink" Target="http://www.physicalgeography.net/fundamentals/6a.html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67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209680" y="5333760"/>
            <a:ext cx="464832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rs. Ermelda Polk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T7240 – July 25, 2009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530280" y="500040"/>
            <a:ext cx="7931160" cy="131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457200" y="1600200"/>
          <a:ext cx="8229600" cy="2494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ypes of Ener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mportance of Ener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Energy absorbed or relea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1160"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e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9360"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71160"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u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1160"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echan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640"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102960" rIns="102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8908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3" descr=""/>
          <p:cNvPicPr/>
          <p:nvPr/>
        </p:nvPicPr>
        <p:blipFill>
          <a:blip r:embed="rId3"/>
          <a:stretch/>
        </p:blipFill>
        <p:spPr>
          <a:xfrm>
            <a:off x="420840" y="1596960"/>
            <a:ext cx="8631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2"/>
          <a:stretch/>
        </p:blipFill>
        <p:spPr>
          <a:xfrm>
            <a:off x="907920" y="500040"/>
            <a:ext cx="7328160" cy="124308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3" descr="ch2.png"/>
          <p:cNvPicPr/>
          <p:nvPr/>
        </p:nvPicPr>
        <p:blipFill>
          <a:blip r:embed="rId3"/>
          <a:srcRect l="0" t="-3752" r="0" b="-3752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71640" y="16761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MPERATURE AND TEMPERATURE SCAL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30920" y="16761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HEATING CURVE FOR H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Content Placeholder 9" descr="Untitled.png"/>
          <p:cNvPicPr/>
          <p:nvPr/>
        </p:nvPicPr>
        <p:blipFill>
          <a:blip r:embed="rId3"/>
          <a:srcRect l="0" t="-8013" r="0" b="-8013"/>
          <a:stretch/>
        </p:blipFill>
        <p:spPr>
          <a:xfrm>
            <a:off x="457200" y="2362320"/>
            <a:ext cx="4040280" cy="376380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10" descr="Untitled1.png"/>
          <p:cNvPicPr/>
          <p:nvPr/>
        </p:nvPicPr>
        <p:blipFill>
          <a:blip r:embed="rId4"/>
          <a:srcRect l="0" t="-24654" r="0" b="-24654"/>
          <a:stretch/>
        </p:blipFill>
        <p:spPr>
          <a:xfrm>
            <a:off x="4645080" y="2362320"/>
            <a:ext cx="40417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89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learner.org/courses/essential/physicalsci/session7/closer1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physicalgeography.net/fundamentals/6a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UNDERSTANDING KEY IDEAS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ITICAL THINK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at is energy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w does heat differ from temperatur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at two temperature scales are used in chemistry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at happens in terms of the transfer of energy as heat when you hold a snowball in your hands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f energy is transferred to a substance as heat, will the temperature of the substance always increas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xplain why or why not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4:09:14Z</dcterms:created>
  <dc:creator>College of Education</dc:creator>
  <dc:description/>
  <dc:language>en-US</dc:language>
  <cp:lastModifiedBy>College of Education</cp:lastModifiedBy>
  <dcterms:modified xsi:type="dcterms:W3CDTF">2009-07-25T17:59:38Z</dcterms:modified>
  <cp:revision>3</cp:revision>
  <dc:subject/>
  <dc:title>Chapter 2 – Energy Notes</dc:title>
</cp:coreProperties>
</file>